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AEA1A-A88A-47AA-9924-3B2234928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C401F-E368-481C-ADBE-61195E4BD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77BFA-5A35-4E97-917C-5CAD6B79F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5F0A1-A5F1-4581-A91F-A5D08DFE1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2F788-E2C3-4F57-AA34-AC4578ACF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80FE7-11E4-4FF6-8A46-61FBD8776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D4F6D-6FC3-4CB3-AE77-11C84823A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4912D-7469-4362-BDFE-0BCE3A4E6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435A0-10C6-424B-9C94-4E5177CF6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B6A07-DD9D-4198-B10A-7580E768E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4EEE8-C530-41B6-8D42-685F61E7C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E6BD7-A8F5-4BCD-A633-54A3FAE54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0A8CE-2AD5-4517-BC90-B54DA3944037}" type="slidenum">
              <a:rPr b="0" lang="nb-N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techsmith.com/jing/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test_1.swf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000" spc="-1" strike="noStrike">
                <a:solidFill>
                  <a:srgbClr val="000000"/>
                </a:solidFill>
                <a:latin typeface="Calibri"/>
              </a:rPr>
              <a:t>How to get Jing  on your computer</a:t>
            </a:r>
            <a:br>
              <a:rPr sz="4000"/>
            </a:br>
            <a:r>
              <a:rPr b="0" lang="nb-NO" sz="4000" spc="-1" strike="noStrike">
                <a:solidFill>
                  <a:srgbClr val="000000"/>
                </a:solidFill>
                <a:latin typeface="Calibri"/>
              </a:rPr>
              <a:t>How to use Jin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b-NO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000000"/>
                </a:solidFill>
                <a:latin typeface="Calibri"/>
              </a:rPr>
              <a:t>1. How to downloa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techsmith.com/jing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Click the download butt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Choose download for windows or Ma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You will see ”thanks for downloading”, if the automatical download has work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If not, you have to click the button ”click here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Allow installing j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kstSylinder 1"/>
          <p:cNvSpPr/>
          <p:nvPr/>
        </p:nvSpPr>
        <p:spPr>
          <a:xfrm>
            <a:off x="473040" y="404640"/>
            <a:ext cx="8433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Calibri"/>
              </a:rPr>
              <a:t>- The Jing installation wizard will guide you through the set u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Calibri"/>
              </a:rPr>
              <a:t>- You have to click”next” for several times till the pop up window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Calibri"/>
              </a:rPr>
              <a:t>- ”Jing is ready to go” appears -&gt; klick ”finish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Calibri"/>
              </a:rPr>
              <a:t>Now you can see the Jing Sun on your desktop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b-NO" sz="2400" spc="-1" strike="noStrike">
                <a:solidFill>
                  <a:srgbClr val="000000"/>
                </a:solidFill>
                <a:latin typeface="Calibri"/>
              </a:rPr>
              <a:t>You have to create a new account to use Jing whenever you wa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Calibri"/>
              </a:rPr>
              <a:t>You need an email account and can choose a password to sign i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b-NO" sz="2400" spc="-1" strike="noStrike">
                <a:solidFill>
                  <a:srgbClr val="000000"/>
                </a:solidFill>
                <a:latin typeface="Calibri"/>
              </a:rPr>
              <a:t>now you are ready to use  use the progra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3780000" y="2997360"/>
            <a:ext cx="4800600" cy="3600360"/>
          </a:xfrm>
          <a:prstGeom prst="rect">
            <a:avLst/>
          </a:prstGeom>
          <a:ln w="0">
            <a:noFill/>
          </a:ln>
        </p:spPr>
      </p:pic>
      <p:sp>
        <p:nvSpPr>
          <p:cNvPr id="47" name="Ellipse 3"/>
          <p:cNvSpPr/>
          <p:nvPr/>
        </p:nvSpPr>
        <p:spPr>
          <a:xfrm>
            <a:off x="5435640" y="2781360"/>
            <a:ext cx="1297080" cy="7189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kstSylinder 2"/>
          <p:cNvSpPr/>
          <p:nvPr/>
        </p:nvSpPr>
        <p:spPr>
          <a:xfrm>
            <a:off x="684360" y="1052640"/>
            <a:ext cx="626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Calibri"/>
              </a:rPr>
              <a:t>A pop up window will open and  ask you, if you need a little more – that`s Jing pro BUT it`s not free, you have to pay for it, so klick the button ”Not interested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000000"/>
                </a:solidFill>
                <a:latin typeface="Calibri"/>
              </a:rPr>
              <a:t>2. How to use J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Jing can make a screenshot or a screenca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If you wan`t to make a screenshot, scroll with your coursor over the yellow half circle on the top of your deskto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Click the cross on the left s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A big moving cross appears on your deskto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Click and hold the left mouse button to choose the picture you want to inclu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If you click the left mouse button again a small window opens and you can see 5 sig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The one in the left means capture image, if you click it, the picture you choosed before is on your computer and you can save it where ever you wa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Now you can put it in every file you wa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000000"/>
                </a:solidFill>
                <a:latin typeface="Calibri"/>
              </a:rPr>
              <a:t>3. Screencas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kstSylinder 2"/>
          <p:cNvSpPr/>
          <p:nvPr/>
        </p:nvSpPr>
        <p:spPr>
          <a:xfrm>
            <a:off x="347040" y="1484280"/>
            <a:ext cx="89132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Calibri"/>
              </a:rPr>
              <a:t>If you want to take a screencast you have to scroll over the yellow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Calibri"/>
              </a:rPr>
              <a:t>sun again, choose the cross on the left and decide what part of th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Calibri"/>
              </a:rPr>
              <a:t>desktop you want to fil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Calibri"/>
              </a:rPr>
              <a:t>Now click the second button from the left – capture vide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Calibri"/>
              </a:rPr>
              <a:t>The program asks you, which microphone you want to use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Calibri"/>
              </a:rPr>
              <a:t>but it`s possible to do it without a microphone to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Calibri"/>
              </a:rPr>
              <a:t>Decide what ever you want to 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Calibri"/>
              </a:rPr>
              <a:t>The Recording will start immediatly – the maximum time is 5 minutes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Calibri"/>
              </a:rPr>
              <a:t>if you want to stop earlier, click the stop  button, choose a nam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Calibri"/>
              </a:rPr>
              <a:t>and save i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Calibri"/>
              </a:rPr>
              <a:t>wherever you wa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Rektangel 4"/>
          <p:cNvSpPr/>
          <p:nvPr/>
        </p:nvSpPr>
        <p:spPr>
          <a:xfrm>
            <a:off x="2286000" y="31050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Calibri"/>
              </a:rPr>
              <a:t>\\</a:t>
            </a:r>
            <a:r>
              <a:rPr b="0" lang="nb-NO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skoleserver\lærere\admin.skeiene\test_1.swf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8T12:11:57Z</dcterms:created>
  <dc:creator>admin.skeiene</dc:creator>
  <dc:description/>
  <dc:language>en-US</dc:language>
  <cp:lastModifiedBy>admin.skeiene</cp:lastModifiedBy>
  <dcterms:modified xsi:type="dcterms:W3CDTF">2010-12-08T13:14:52Z</dcterms:modified>
  <cp:revision>7</cp:revision>
  <dc:subject/>
  <dc:title>How to get Jing  on your computer How to use Jing</dc:title>
</cp:coreProperties>
</file>